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D1D5-7D7B-4957-961C-0F09CA9F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0E26-F7B5-4CE2-8BA0-1BC3445A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8E56-0C61-4421-96CA-149D6186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9F90-7EC7-4D0A-A77F-D3609907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956A-7AFC-4EC7-81E1-65691FBB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76AE-BAE6-4FCB-94A7-47D3F2F8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F28C-8494-485E-96EA-E16ADCEC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7C3C-5B4E-4103-B6C2-3960DF39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9E0C-FF36-4048-9092-0CDCEB67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ACF2-873F-4FDE-BAB8-CDE790D4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2529-160D-4C1E-AB76-555F4A7F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6B97-0C83-4B40-8722-14F23D4D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9993-1F32-48A8-A0FD-B0A72C23A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2895480"/>
            <a:ext cx="5486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DIERD SUPPORT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Personnel Readiness Data From The Unit Status Rep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US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ACTICAL EXERCISE SUPP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86200" y="1219320"/>
            <a:ext cx="11286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6104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31680" y="-11177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61920" y="729288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31680" y="17668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63360" y="-11177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61920" y="729288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63360" y="17668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10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06440" y="228600"/>
            <a:ext cx="842796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171360"/>
            <a:ext cx="868680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6472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4:54:04Z</dcterms:created>
  <dc:creator>mike.a.williams</dc:creator>
  <dc:description/>
  <dc:language>en-US</dc:language>
  <cp:lastModifiedBy>Administrator</cp:lastModifiedBy>
  <dcterms:modified xsi:type="dcterms:W3CDTF">2005-07-08T21:05:05Z</dcterms:modified>
  <cp:revision>9</cp:revision>
  <dc:subject/>
  <dc:title>Slide 1</dc:title>
</cp:coreProperties>
</file>